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6CE1-0F86-4C84-979D-7A696FAB7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AAFA-2A4E-44F6-80B6-5F8D9981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5464-62BF-4128-91EF-D384FCF9C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96E2-9778-4282-9AB6-5AC702D32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AD519-B149-4D2B-9869-B26D7D682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2DD5-55E7-441D-8754-62A21B12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A325-266D-4ED9-8216-A1D81C14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D1FA-20C6-4FA0-96B2-776D9287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D2DA-F92E-422D-A20B-B2E3506C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2D9B-C199-4899-8E1A-341DD9C9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29D6-E4E8-4A6F-9AB6-23FA0663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97FF-1901-45F2-995E-BA5E128C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7F87-B856-42B0-9B53-43D650D7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DD97-4979-46C2-8D2F-C37CDB40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C0F0-DF4E-4734-9CFB-C9F36CE1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AE01-BEA0-4FF5-8BD8-471993936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BCC4-8F21-476C-8190-D45E79084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DABD3-E495-4CD2-9324-F65681114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BA3EC-70D5-4446-863C-8FA04C1C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69558-6F18-45A3-A2CA-8F0C8F53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5EC66-4103-48BF-8224-2EE84B8D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84633-C163-4A56-92C6-AD367D67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EE0A-0B21-4AC0-B3D7-73D82074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83DEE-D9C3-4C8A-B6EC-923538DC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2E628-E269-421F-811B-61B1CE87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6D076-F136-4206-825A-9FDDC569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7A499-1139-4B04-B5BC-BC919950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C1625-CB19-4300-85C7-F935A577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ED790-0688-4025-B5D2-4D1D91771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1EE1E-08A6-4CD2-AAFF-BC786E51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BD481C-2CBB-4A00-B9D0-2ACF3636D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E289F9-9995-4077-BF6B-7F0AB611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BAFEB4-2205-4F87-9A1A-DF6ECDDF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EFD8-A4DA-411E-84A1-C3491585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FFA9A0-F0FA-4132-A891-FFA0BF45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B0A9C6-2184-4C28-9CDF-076C8A0B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B942C1-85F8-42D1-A7B0-C506B9E0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93A993-EB09-41C3-A85F-DAB95269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95BD77-3111-4938-A036-89E849B0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BE9C38-76B9-4C00-80EF-F36F3095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04BD24-A82A-46D2-BAC4-E19B4DE6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EBF45A-6607-4CD5-A87C-82E20A34D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A6A3ED-566D-44D7-83AD-B3631D0F5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568E79-F371-4160-A87E-E9A842DE0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C28D-C7EF-4EA7-AD95-5F43B603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AD3643-4565-42DE-B512-D47C599C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81D0A1-7AEC-462A-87D3-FD573D10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399D82-2A94-46B0-9056-A1186D5E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BBAD0D-8E7D-4CD2-8137-F857B110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F99971-81D2-49BB-BB29-5BBCD9BD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C8FF7D-5E11-464F-8A79-CCF4656A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2320FB-5AD6-4A09-93F9-05A571C5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50B458-48E3-432C-81CF-2AEB04E4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A09DA5-0D30-4B84-9F45-FC9C9703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001A87-441B-4B9B-9E33-A3C7D1A9D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733F-0EFD-4D1A-B468-40792085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A2BF3B-F4BA-457E-AD10-3A30CA830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EE2E-DA66-48F5-910C-E589AE4F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1AB2-3241-4DA6-A6CE-D4820D44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D64C-F2C6-4690-911D-AB08A3A9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35D4-7B87-4EA7-9159-1950C2EFE38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faec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ced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ce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8ee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faec5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8ee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faec5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faec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923D-143A-463C-803D-2D025945314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faec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5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ced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6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ce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7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8ee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8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faec5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9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8ee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0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1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faec5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2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3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faec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4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5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6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7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8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9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d2d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2d2d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2d2d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9907-8C6D-4BF5-878D-80856677BA3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2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3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4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5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6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7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AE8E-8495-4AF1-AFC9-FC42622D556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1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2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3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4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5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4DAE-1FA8-4002-8492-E71F76C7C21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29&amp;ed=1&amp;text=&#1091;&#1079;&#1086;&#1088;&#1099;%20&#1074;%20&#1082;&#1072;&#1083;&#1077;&#1081;&#1076;&#1086;&#1089;&#1082;&#1086;&#1087;&#1077;&amp;spsite=festival.ru&amp;img_url=festival.ru%2Fdata%2Fwork%2F364%2Fimage%2Fgremo_08.jpg&amp;rpt=simage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yandex.ru/search?p=55&amp;ed=1&amp;text=&#1091;&#1079;&#1086;&#1088;&#1099;%20&#1074;%20&#1082;&#1072;&#1083;&#1077;&#1081;&#1076;&#1086;&#1089;&#1082;&#1086;&#1087;&#1077;&amp;spsite=igrushka.kz&amp;img_url=igrushka.kz%2Fvip76%2Fkal1.jpg&amp;rpt=simage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images.yandex.ru/search?p=5&amp;ed=1&amp;text=&#1091;&#1079;&#1086;&#1088;&#1099;%20&#1074;%20&#1082;&#1072;&#1083;&#1077;&#1081;&#1076;&#1086;&#1089;&#1082;&#1086;&#1087;&#1077;&amp;spsite=www.mquilts.ru&amp;img_url=www.mquilts.ru%2Fimages%2Fissues%2Farticle_305_pic2.jpg&amp;rpt=simage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fotki.yandex.ru/users/sofido/view/127934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images.yandex.ru/search?p=23&amp;ed=1&amp;text=&#1091;&#1079;&#1086;&#1088;&#1099;%20&#1074;%20&#1082;&#1072;&#1083;&#1077;&#1081;&#1076;&#1086;&#1089;&#1082;&#1086;&#1087;&#1077;&amp;spsite=fake-018-7288645.ru&amp;img_url=www.artsjournal.com%2Fdewey21c%2Fkaleidoscope-collage2.gif&amp;rpt=simage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81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РЕШИ ПРИМЕРЫ .</a:t>
            </a:r>
            <a:endParaRPr b="0" lang="en-US" sz="32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900000" y="1052280"/>
            <a:ext cx="746784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60+10=             100-20=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73-70=              99-36=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55-30=              43+8=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64-6=                38-9=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25 +5=              26+80=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76-4=                10-10=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2 балл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89" name="разноцветная игра 2.mp3" descr=""/>
          <p:cNvPicPr/>
          <p:nvPr/>
        </p:nvPicPr>
        <p:blipFill>
          <a:blip r:embed="rId1"/>
          <a:stretch/>
        </p:blipFill>
        <p:spPr>
          <a:xfrm>
            <a:off x="714240" y="60008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90" name="Рисунок 38" descr="http://im8-tub.yandex.net/i?id=172960400&amp;tov=8"/>
          <p:cNvPicPr/>
          <p:nvPr/>
        </p:nvPicPr>
        <p:blipFill>
          <a:blip r:embed="rId2"/>
          <a:stretch/>
        </p:blipFill>
        <p:spPr>
          <a:xfrm>
            <a:off x="5846760" y="4730760"/>
            <a:ext cx="2462040" cy="308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172652" fill="hold"/>
                                        <p:tgtEl>
                                          <p:spTgt spid="2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7f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679608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entury Schoolbook"/>
              </a:rPr>
              <a:t>6.</a:t>
            </a:r>
            <a:r>
              <a:rPr b="0" lang="en-US" sz="2700" spc="-1" strike="noStrike">
                <a:solidFill>
                  <a:srgbClr val="666666"/>
                </a:solidFill>
                <a:latin typeface="Century Schoolbook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Bookman Old Style"/>
              </a:rPr>
              <a:t>КАК ЗОВУТ ИХ ДЕТЁНЫШЕЙ?</a:t>
            </a:r>
            <a:endParaRPr b="0" lang="en-US" sz="29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2411280" y="1268280"/>
            <a:ext cx="291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Утка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Грач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Галка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Сова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Курица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Лиса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Волк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Корова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Свинья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Овца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93" name="MorningStar.mp3" descr=""/>
          <p:cNvPicPr/>
          <p:nvPr/>
        </p:nvPicPr>
        <p:blipFill>
          <a:blip r:embed="rId1"/>
          <a:stretch/>
        </p:blipFill>
        <p:spPr>
          <a:xfrm>
            <a:off x="395280" y="6110280"/>
            <a:ext cx="480960" cy="48096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6"/>
          <p:cNvSpPr/>
          <p:nvPr/>
        </p:nvSpPr>
        <p:spPr>
          <a:xfrm>
            <a:off x="1256760" y="609300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10 баллов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95" name="Рисунок 44" descr="http://im8-tub.yandex.net/i?id=41780605&amp;tov=8"/>
          <p:cNvPicPr/>
          <p:nvPr/>
        </p:nvPicPr>
        <p:blipFill>
          <a:blip r:embed="rId2"/>
          <a:stretch/>
        </p:blipFill>
        <p:spPr>
          <a:xfrm>
            <a:off x="4986360" y="1719360"/>
            <a:ext cx="2951280" cy="38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68682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КОНФЕТЫ ЗА ОТВЕТЫ</a:t>
            </a:r>
            <a:endParaRPr b="0" lang="en-US" sz="3200" spc="-1" strike="noStrike">
              <a:solidFill>
                <a:srgbClr val="666666"/>
              </a:solidFill>
              <a:latin typeface="Century Schoolbook"/>
            </a:endParaRPr>
          </a:p>
        </p:txBody>
      </p:sp>
      <p:pic>
        <p:nvPicPr>
          <p:cNvPr id="297" name="Picture 5" descr="j0234131"/>
          <p:cNvPicPr/>
          <p:nvPr/>
        </p:nvPicPr>
        <p:blipFill>
          <a:blip r:embed="rId1"/>
          <a:stretch/>
        </p:blipFill>
        <p:spPr>
          <a:xfrm>
            <a:off x="2428920" y="1571760"/>
            <a:ext cx="3686040" cy="39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pic>
        <p:nvPicPr>
          <p:cNvPr id="299" name="Holly Dolly.mp3" descr=""/>
          <p:cNvPicPr/>
          <p:nvPr/>
        </p:nvPicPr>
        <p:blipFill>
          <a:blip r:embed="rId1"/>
          <a:stretch/>
        </p:blipFill>
        <p:spPr>
          <a:xfrm>
            <a:off x="395280" y="5734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27" descr="C:\Documents and Settings\Учитель\Мои документы\Мои рисунки\article_305_pic2.jpg"/>
          <p:cNvPicPr/>
          <p:nvPr/>
        </p:nvPicPr>
        <p:blipFill>
          <a:blip r:embed="rId2"/>
          <a:stretch/>
        </p:blipFill>
        <p:spPr>
          <a:xfrm>
            <a:off x="1206360" y="92160"/>
            <a:ext cx="6944040" cy="836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178165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195280" y="980640"/>
            <a:ext cx="61722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912c3"/>
                </a:solidFill>
                <a:latin typeface="Arial"/>
              </a:rPr>
              <a:t>КЛАССНЫЙ ЧАС</a:t>
            </a:r>
            <a:br>
              <a:rPr sz="3000"/>
            </a:br>
            <a:r>
              <a:rPr b="1" lang="en-US" sz="3000" spc="-1" strike="noStrike">
                <a:solidFill>
                  <a:srgbClr val="0912c3"/>
                </a:solidFill>
                <a:latin typeface="Century Schoolbook"/>
              </a:rPr>
              <a:t>« КАЛЕЙДОСКОП»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339640" y="3500280"/>
            <a:ext cx="617220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59"/>
                </a:solidFill>
                <a:latin typeface="Century Schoolbook"/>
              </a:rPr>
              <a:t>О</a:t>
            </a:r>
            <a:r>
              <a:rPr b="1" lang="en-US" sz="3600" spc="-1" strike="noStrike">
                <a:solidFill>
                  <a:srgbClr val="66ffff"/>
                </a:solidFill>
                <a:latin typeface="Century Schoolbook"/>
              </a:rPr>
              <a:t>т</a:t>
            </a:r>
            <a:r>
              <a:rPr b="1" lang="en-US" sz="3600" spc="-1" strike="noStrike">
                <a:solidFill>
                  <a:srgbClr val="be2828"/>
                </a:solidFill>
                <a:latin typeface="Century Schoolbook"/>
              </a:rPr>
              <a:t>в</a:t>
            </a:r>
            <a:r>
              <a:rPr b="1" lang="en-US" sz="3600" spc="-1" strike="noStrike">
                <a:solidFill>
                  <a:srgbClr val="66ff99"/>
                </a:solidFill>
                <a:latin typeface="Century Schoolbook"/>
              </a:rPr>
              <a:t>е</a:t>
            </a:r>
            <a:r>
              <a:rPr b="1" lang="en-US" sz="3600" spc="-1" strike="noStrike">
                <a:solidFill>
                  <a:srgbClr val="ffcc66"/>
                </a:solidFill>
                <a:latin typeface="Century Schoolbook"/>
              </a:rPr>
              <a:t>т</a:t>
            </a:r>
            <a:r>
              <a:rPr b="1" lang="en-US" sz="3600" spc="-1" strike="noStrike">
                <a:solidFill>
                  <a:srgbClr val="9999ff"/>
                </a:solidFill>
                <a:latin typeface="Century Schoolbook"/>
              </a:rPr>
              <a:t>ы</a:t>
            </a:r>
            <a:r>
              <a:rPr b="1" lang="en-US" sz="3600" spc="-1" strike="noStrike">
                <a:solidFill>
                  <a:srgbClr val="0912c3"/>
                </a:solidFill>
                <a:latin typeface="Century Schoolbook"/>
              </a:rPr>
              <a:t> </a:t>
            </a:r>
            <a:r>
              <a:rPr b="1" lang="en-US" sz="3600" spc="-1" strike="noStrike">
                <a:solidFill>
                  <a:srgbClr val="ff388c"/>
                </a:solidFill>
                <a:latin typeface="Century Schoolbook"/>
              </a:rPr>
              <a:t>з</a:t>
            </a:r>
            <a:r>
              <a:rPr b="1" lang="en-US" sz="3600" spc="-1" strike="noStrike">
                <a:solidFill>
                  <a:srgbClr val="666666"/>
                </a:solidFill>
                <a:latin typeface="Century Schoolbook"/>
              </a:rPr>
              <a:t>а</a:t>
            </a:r>
            <a:r>
              <a:rPr b="1" lang="en-US" sz="3600" spc="-1" strike="noStrike">
                <a:solidFill>
                  <a:srgbClr val="0912c3"/>
                </a:solidFill>
                <a:latin typeface="Century Schoolbook"/>
              </a:rPr>
              <a:t> </a:t>
            </a:r>
            <a:r>
              <a:rPr b="1" lang="en-US" sz="3600" spc="-1" strike="noStrike">
                <a:solidFill>
                  <a:srgbClr val="e40059"/>
                </a:solidFill>
                <a:latin typeface="Century Schoolbook"/>
              </a:rPr>
              <a:t>к</a:t>
            </a:r>
            <a:r>
              <a:rPr b="1" lang="en-US" sz="3600" spc="-1" strike="noStrike">
                <a:solidFill>
                  <a:srgbClr val="17bbfd"/>
                </a:solidFill>
                <a:latin typeface="Century Schoolbook"/>
              </a:rPr>
              <a:t>о</a:t>
            </a:r>
            <a:r>
              <a:rPr b="1" lang="en-US" sz="3600" spc="-1" strike="noStrike">
                <a:solidFill>
                  <a:srgbClr val="ff79c2"/>
                </a:solidFill>
                <a:latin typeface="Century Schoolbook"/>
              </a:rPr>
              <a:t>н</a:t>
            </a:r>
            <a:r>
              <a:rPr b="1" lang="en-US" sz="3600" spc="-1" strike="noStrike">
                <a:solidFill>
                  <a:srgbClr val="f8c8be"/>
                </a:solidFill>
                <a:latin typeface="Century Schoolbook"/>
              </a:rPr>
              <a:t>ф</a:t>
            </a:r>
            <a:r>
              <a:rPr b="1" lang="en-US" sz="3600" spc="-1" strike="noStrike">
                <a:solidFill>
                  <a:srgbClr val="17bbfd"/>
                </a:solidFill>
                <a:latin typeface="Century Schoolbook"/>
              </a:rPr>
              <a:t>е</a:t>
            </a:r>
            <a:r>
              <a:rPr b="1" lang="en-US" sz="3600" spc="-1" strike="noStrike">
                <a:solidFill>
                  <a:srgbClr val="66ff99"/>
                </a:solidFill>
                <a:latin typeface="Century Schoolbook"/>
              </a:rPr>
              <a:t>т</a:t>
            </a:r>
            <a:r>
              <a:rPr b="1" lang="en-US" sz="3600" spc="-1" strike="noStrike">
                <a:solidFill>
                  <a:srgbClr val="ffb7de"/>
                </a:solidFill>
                <a:latin typeface="Century Schoolbook"/>
              </a:rPr>
              <a:t>ы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214440" y="274320"/>
            <a:ext cx="4709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666666"/>
                </a:solidFill>
                <a:latin typeface="Century Schoolbook"/>
              </a:rPr>
              <a:t>            </a:t>
            </a:r>
            <a:br>
              <a:rPr sz="2300"/>
            </a:br>
            <a:r>
              <a:rPr b="1" lang="en-US" sz="2300" spc="-1" strike="noStrike">
                <a:solidFill>
                  <a:srgbClr val="666666"/>
                </a:solidFill>
                <a:latin typeface="Century Schoolbook"/>
              </a:rPr>
              <a:t>СЛОВАРЬ УШАКОВА</a:t>
            </a:r>
            <a:br>
              <a:rPr sz="2300"/>
            </a:br>
            <a:endParaRPr b="0" lang="en-US" sz="23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713880"/>
            <a:ext cx="746748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Калейдоскоп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рибор в виде зрительной трубки с вставленными в нее зеркальными стеклами и положенными между ними цветными стеклышка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Быстрая смена мелькающих образов, впечатл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61" name="Рисунок 24" descr="http://im7-tub.yandex.net/i?id=53707390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4697280"/>
            <a:ext cx="2772000" cy="216072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43" descr="http://im6-tub.yandex.net/i?id=100492441&amp;tov=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26920" y="333360"/>
            <a:ext cx="1873440" cy="18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76000" y="475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Bookman Old Style"/>
              </a:rPr>
              <a:t>РЕКЛАМА КАЛЕЙДОСКОПА</a:t>
            </a:r>
            <a:endParaRPr b="0" lang="en-US" sz="32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65" name="i-tmb-0x" descr="http://im6-tub.yandex.net/i?id=83015829&amp;tov=6"/>
          <p:cNvPicPr/>
          <p:nvPr/>
        </p:nvPicPr>
        <p:blipFill>
          <a:blip r:embed="rId1"/>
          <a:stretch/>
        </p:blipFill>
        <p:spPr>
          <a:xfrm>
            <a:off x="2627280" y="2492280"/>
            <a:ext cx="3657600" cy="27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68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7467480" cy="8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ИСПРАВЬ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ОШИБКИ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32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4000" y="1557360"/>
            <a:ext cx="74674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196200" indent="-196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Печька, чяйник, лена, рощя,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196200" indent="-196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петров, марков, москва, карова,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196200" indent="-196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бижать, снек, братя, ужы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196200" indent="-196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чюлок, русский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196200" indent="-196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196200" indent="-196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196200" indent="-196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196200" indent="-196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196200" indent="-196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15 баллов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68" name="Dozhdik.mp3" descr=""/>
          <p:cNvPicPr/>
          <p:nvPr/>
        </p:nvPicPr>
        <p:blipFill>
          <a:blip r:embed="rId1"/>
          <a:stretch/>
        </p:blipFill>
        <p:spPr>
          <a:xfrm>
            <a:off x="395280" y="5950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10" descr="http://im4-tub.yandex.net/i?id=70807319&amp;tov=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27560" y="3664080"/>
            <a:ext cx="34383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75136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a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4360" y="286920"/>
            <a:ext cx="741708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2.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Ответьте письменно.</a:t>
            </a:r>
            <a:endParaRPr b="0" lang="en-US" sz="44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115640" y="1125360"/>
            <a:ext cx="720108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ое мороженое в шоколаде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ест жаба зимой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ощадка для бокса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олько крыльев у блохи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рская щука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мблема государства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тский юмористический киножурнал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тает ли снежная баба, если на неё надеть шубу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нак почтовой оплат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м заканчивается « день» и «ночь»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балл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72" name="BILAN COMPRESSED.mp3" descr=""/>
          <p:cNvPicPr/>
          <p:nvPr/>
        </p:nvPicPr>
        <p:blipFill>
          <a:blip r:embed="rId1"/>
          <a:stretch/>
        </p:blipFill>
        <p:spPr>
          <a:xfrm>
            <a:off x="250920" y="6093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7" descr=" 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46760" y="1432080"/>
            <a:ext cx="2913120" cy="33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2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2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2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2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2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20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20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2000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2000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2000"/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2000"/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90132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3.</a:t>
            </a: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ДОПОЛНИ ПОСЛОВИЦУ</a:t>
            </a: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4400" spc="-1" strike="noStrike">
              <a:solidFill>
                <a:srgbClr val="666666"/>
              </a:solidFill>
              <a:latin typeface="Century Schoolbook"/>
            </a:endParaRPr>
          </a:p>
        </p:txBody>
      </p:sp>
      <p:pic>
        <p:nvPicPr>
          <p:cNvPr id="275" name="Содержимое 2" descr=""/>
          <p:cNvPicPr/>
          <p:nvPr/>
        </p:nvPicPr>
        <p:blipFill>
          <a:blip r:embed="rId1"/>
          <a:stretch/>
        </p:blipFill>
        <p:spPr>
          <a:xfrm>
            <a:off x="1122480" y="1414440"/>
            <a:ext cx="8491320" cy="4956120"/>
          </a:xfrm>
          <a:prstGeom prst="rect">
            <a:avLst/>
          </a:prstGeom>
          <a:ln w="0">
            <a:noFill/>
          </a:ln>
        </p:spPr>
      </p:pic>
      <p:pic>
        <p:nvPicPr>
          <p:cNvPr id="276" name="China Dreams - Sunrise In Peking.mp3" descr=""/>
          <p:cNvPicPr/>
          <p:nvPr/>
        </p:nvPicPr>
        <p:blipFill>
          <a:blip r:embed="rId2"/>
          <a:stretch/>
        </p:blipFill>
        <p:spPr>
          <a:xfrm>
            <a:off x="135720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17" descr="http://im7-tub.yandex.net/i?id=110836997&amp;tov=7"/>
          <p:cNvPicPr/>
          <p:nvPr/>
        </p:nvPicPr>
        <p:blipFill>
          <a:blip r:embed="rId3"/>
          <a:stretch/>
        </p:blipFill>
        <p:spPr>
          <a:xfrm>
            <a:off x="5168880" y="1432080"/>
            <a:ext cx="3262320" cy="43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59617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912c3"/>
                </a:solidFill>
                <a:latin typeface="Bookman Old Style"/>
              </a:rPr>
              <a:t>ОТДЫХАЙ! </a:t>
            </a:r>
            <a:br>
              <a:rPr sz="3000"/>
            </a:br>
            <a:r>
              <a:rPr b="1" lang="en-US" sz="3000" spc="-1" strike="noStrike">
                <a:solidFill>
                  <a:srgbClr val="0912c3"/>
                </a:solidFill>
                <a:latin typeface="Bookman Old Style"/>
              </a:rPr>
              <a:t>«Танец маленьких утят»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pic>
        <p:nvPicPr>
          <p:cNvPr id="279" name="Picture 7" descr="магдак"/>
          <p:cNvPicPr/>
          <p:nvPr/>
        </p:nvPicPr>
        <p:blipFill>
          <a:blip r:embed="rId1"/>
          <a:stretch/>
        </p:blipFill>
        <p:spPr>
          <a:xfrm>
            <a:off x="1258920" y="1484280"/>
            <a:ext cx="6481800" cy="4681440"/>
          </a:xfrm>
          <a:prstGeom prst="rect">
            <a:avLst/>
          </a:prstGeom>
          <a:ln w="38160">
            <a:solidFill>
              <a:srgbClr val="17bbfd"/>
            </a:solidFill>
            <a:miter/>
          </a:ln>
        </p:spPr>
      </p:pic>
      <p:pic>
        <p:nvPicPr>
          <p:cNvPr id="280" name="Рисунок 27" descr="C:\Documents and Settings\Учитель\Мои документы\Мои рисунки\article_305_pic2.jpg"/>
          <p:cNvPicPr/>
          <p:nvPr/>
        </p:nvPicPr>
        <p:blipFill>
          <a:blip r:embed="rId2"/>
          <a:stretch/>
        </p:blipFill>
        <p:spPr>
          <a:xfrm>
            <a:off x="1258920" y="2276640"/>
            <a:ext cx="3817800" cy="3146400"/>
          </a:xfrm>
          <a:prstGeom prst="rect">
            <a:avLst/>
          </a:prstGeom>
          <a:ln w="0">
            <a:noFill/>
          </a:ln>
        </p:spPr>
      </p:pic>
      <p:pic>
        <p:nvPicPr>
          <p:cNvPr id="281" name="10 Учимся Танцевать - Танец Маленьких Утят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82" name="10 Учимся Танцевать - Танец Маленьких Утят.mp3" descr=""/>
          <p:cNvPicPr/>
          <p:nvPr/>
        </p:nvPicPr>
        <p:blipFill>
          <a:blip r:embed="rId4"/>
          <a:stretch/>
        </p:blipFill>
        <p:spPr>
          <a:xfrm>
            <a:off x="539640" y="5533920"/>
            <a:ext cx="792360" cy="7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190620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9062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90620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f18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КТО НАПИСАЛ ОБЪЯВЛЕНИЕ?</a:t>
            </a:r>
            <a:endParaRPr b="0" lang="en-US" sz="32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84000" y="1197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Меняю голубой парик из натуральных волос на книгу «Правильный уход за пуделем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Возьму на прокат свадебное платье. Рост -2,5 с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ропал кот. Хромает на одну лапу. На груди табличка «Слепой». Разыскивает деловая партнёрш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Ищу место гувернантки в порядочной английской семье. В рекомендациях не нуждаюсь по причине совершенств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 балл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85" name="Light Character polka- Strauss.mp3" descr=""/>
          <p:cNvPicPr/>
          <p:nvPr/>
        </p:nvPicPr>
        <p:blipFill>
          <a:blip r:embed="rId1"/>
          <a:stretch/>
        </p:blipFill>
        <p:spPr>
          <a:xfrm>
            <a:off x="714240" y="61437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18" descr="http://im2-tub.yandex.net/i?id=52911653&amp;tov=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86440" y="4803840"/>
            <a:ext cx="2382840" cy="295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195378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итель</dc:creator>
  <dc:description/>
  <dc:language>en-US</dc:language>
  <cp:lastModifiedBy>Елена</cp:lastModifiedBy>
  <dcterms:modified xsi:type="dcterms:W3CDTF">2012-04-07T14:25:31Z</dcterms:modified>
  <cp:revision>64</cp:revision>
  <dc:subject/>
  <dc:title>Внеклассное мероприятие « калейдоскоп»</dc:title>
</cp:coreProperties>
</file>